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9.jpeg" ContentType="image/jpeg"/>
  <Override PartName="/ppt/media/image6.jpeg" ContentType="image/jpeg"/>
  <Override PartName="/ppt/media/image63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0.jpeg" ContentType="image/jpeg"/>
  <Override PartName="/ppt/media/image16.jpeg" ContentType="image/jpeg"/>
  <Override PartName="/ppt/media/image23.jpeg" ContentType="image/jpeg"/>
  <Override PartName="/ppt/media/image18.jpeg" ContentType="image/jpeg"/>
  <Override PartName="/ppt/media/image19.jpeg" ContentType="image/jpeg"/>
  <Override PartName="/ppt/media/image61.jpeg" ContentType="image/jpeg"/>
  <Override PartName="/ppt/media/image17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6.jpeg" ContentType="image/jpeg"/>
  <Override PartName="/ppt/media/image57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5EE5F-E427-4C98-9A2D-548B72652F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114C9-AE98-4BB5-9AF0-7F177769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FBA3-64FB-4107-B5E5-FA6D4839F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058A8-56DD-4156-BACB-9370D12E61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3329B-3D5A-4BC7-8938-AF68CF08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F7913-18DB-4685-A84D-199F827A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1015C-4BFC-4C7A-BC51-072D5968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6F771-A2CB-4AC2-B181-70907295D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64A3E-CEA1-4A82-BCBC-EC613E95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BB6D8-862C-46CB-9B52-899F10D7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BC8B-DEFD-41FD-AEEB-C2F8A507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A66FE-5A55-4FE2-93D1-F58C4C01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577600" y="6528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ED19-A663-4B74-A7BC-F4AF46D0ED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Istanbu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6. Oktober – 2. November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579680" cy="172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56360" y="476280"/>
            <a:ext cx="2305080" cy="1579680"/>
          </a:xfrm>
          <a:prstGeom prst="rect">
            <a:avLst/>
          </a:prstGeom>
          <a:ln w="381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A7E9A-D82E-4A52-B189-6E4537C418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Development Plann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71640" y="4005360"/>
            <a:ext cx="291600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59280" y="155736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7164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859280" y="393372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8D68-2270-4A2A-AE7D-105A08CA3B4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4032360" cy="3024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356000" y="2852640"/>
            <a:ext cx="4140360" cy="3105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63CC6-CB64-45DF-8A72-86B4172E58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az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291492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23D1-4F5B-464A-942E-455B31C944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26960" y="679320"/>
            <a:ext cx="388620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06520" y="3944880"/>
            <a:ext cx="388944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219640" y="620640"/>
            <a:ext cx="3202200" cy="568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D90E1-E5D2-496B-BB4A-EB77149502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Boat Trip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Bosphor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75564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755640" y="393372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5472000" y="393372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6CC1C-8BA8-4B56-BD03-1E1D24F561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8040" y="54612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253120" y="579600"/>
            <a:ext cx="3552840" cy="26650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49440" y="362592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5330880" y="362124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DBF68-AA85-4901-9322-59955EF1CE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Topkapi Cultural District </a:t>
            </a:r>
            <a:br>
              <a:rPr sz="4000"/>
            </a:b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of Turkish Wor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017720" y="3938760"/>
            <a:ext cx="291600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5153040" y="1843200"/>
            <a:ext cx="3029040" cy="40384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F547B-5BB5-465D-AEDD-9E79C5CB94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Lunch with the representative of the Mayor,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the Director of Education and </a:t>
            </a:r>
            <a:br>
              <a:rPr sz="2400"/>
            </a:b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the County Gover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219640" y="4005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042920" y="393372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042920" y="148428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CA0F-02DB-4B85-A13E-823FFA1C55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30160" y="476280"/>
            <a:ext cx="7632720" cy="5724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EF958-96AE-478E-A66A-A39EC414582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</a:rPr>
              <a:t>Closure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24658" t="0" r="21015" b="5557"/>
          <a:stretch/>
        </p:blipFill>
        <p:spPr>
          <a:xfrm>
            <a:off x="684360" y="1628640"/>
            <a:ext cx="1584000" cy="3672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4967280" cy="3726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A2696-3FC0-44C4-AC5E-A7F90B9EFF4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528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Opening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0040" y="3862440"/>
            <a:ext cx="3240000" cy="2268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rcRect l="20509" t="44866" r="17943" b="0"/>
          <a:stretch/>
        </p:blipFill>
        <p:spPr>
          <a:xfrm>
            <a:off x="6551640" y="3978360"/>
            <a:ext cx="1809720" cy="2160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7" name="" descr=""/>
          <p:cNvPicPr/>
          <p:nvPr/>
        </p:nvPicPr>
        <p:blipFill>
          <a:blip r:embed="rId3"/>
          <a:srcRect l="14868" t="28460" r="24311" b="39022"/>
          <a:stretch/>
        </p:blipFill>
        <p:spPr>
          <a:xfrm>
            <a:off x="755640" y="1268280"/>
            <a:ext cx="3311640" cy="12988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4"/>
          <a:srcRect l="15949" t="18554" r="0" b="0"/>
          <a:stretch/>
        </p:blipFill>
        <p:spPr>
          <a:xfrm>
            <a:off x="5219640" y="1268280"/>
            <a:ext cx="3168720" cy="2301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130B-F7DB-4FBE-97C1-0693461C04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870440" y="836640"/>
            <a:ext cx="3548160" cy="26607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55640" y="378936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863960" y="3776760"/>
            <a:ext cx="3552840" cy="2665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684360" y="836640"/>
            <a:ext cx="3552840" cy="2665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4167-9073-4FCD-94BD-57BEFAFBBF6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4248360" cy="31878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452680" cy="3268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4B713-2579-4F93-88A6-49B6AECE87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826920" y="466560"/>
            <a:ext cx="7345440" cy="5508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3EEDA-1611-41AB-815F-3E7B0B6269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Visiting Miniatu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4005360"/>
            <a:ext cx="291636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916360" cy="218736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521964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DDB0-71B7-4AC2-B41B-EE59BAE072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Blue Mos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42920" y="1628640"/>
            <a:ext cx="2914560" cy="2186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859280" y="407664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59280" y="1557360"/>
            <a:ext cx="291636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5AB81-A8EA-42C7-BE32-74104D9511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Tea break at Cafer Aga Medresesi 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(an old Ottoman scho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59280" y="1557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148360" y="4005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028880" y="3933720"/>
            <a:ext cx="291600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DF0F5-BFE7-4BEB-B01C-1B9BB77967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agia Irene Chu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4321440" cy="32414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64000" y="1700280"/>
            <a:ext cx="3260880" cy="43466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48DC6-0807-4371-891C-FC4BF3A240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4174920" cy="3132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997440" y="3027240"/>
            <a:ext cx="4464000" cy="3348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219640" y="90792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Street-ven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29748-0A7D-4626-BC1F-9727B08819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pecial breakfast by Istanbul Chamber of Commerce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(at Cemile Sultan Seaside Res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4440" t="0" r="35574" b="0"/>
          <a:stretch/>
        </p:blipFill>
        <p:spPr>
          <a:xfrm>
            <a:off x="468360" y="2421000"/>
            <a:ext cx="2495520" cy="3744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80000" y="170028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618000" y="4149720"/>
            <a:ext cx="388944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332B2-0502-4277-8A2D-D65AFCC9FC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ffff"/>
                </a:solidFill>
                <a:latin typeface="Arial"/>
              </a:rPr>
              <a:t>Visiting the Beylerbeyi Pal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042920" y="4005360"/>
            <a:ext cx="2914560" cy="2185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3"/>
          <a:srcRect l="0" t="25561" r="0" b="18694"/>
          <a:stretch/>
        </p:blipFill>
        <p:spPr>
          <a:xfrm>
            <a:off x="5219640" y="4076640"/>
            <a:ext cx="2879640" cy="21398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77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2916000" cy="21877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A2CDD-A95F-4340-A566-A70F31173B4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4T10:45:51Z</dcterms:created>
  <dc:creator>Angelika Home</dc:creator>
  <dc:description/>
  <dc:language>en-US</dc:language>
  <cp:lastModifiedBy>Stolz-Hasslacher.Mar</cp:lastModifiedBy>
  <dcterms:modified xsi:type="dcterms:W3CDTF">2010-11-17T11:45:35Z</dcterms:modified>
  <cp:revision>14</cp:revision>
  <dc:subject/>
  <dc:title>Istanbul</dc:title>
</cp:coreProperties>
</file>